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526-E102-49E6-9F9E-8C4BE30F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E8D-E46E-4B5D-B65D-EACA6662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9BF-F17A-4778-81A3-3A55E752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216-7864-42C5-91AC-7487AB61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70A-60FF-4914-9329-CD76894B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369-5B4C-4D14-BC85-06F5F7E7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4FC-24F8-48B2-B5B5-AA50AC6B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E0E-D3EE-4DD1-B9CA-4A85EC35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E47-74B8-4A6A-BF1A-8550BE9C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AB0-1D3A-46ED-85BD-1DDCF22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F94-8F93-499F-83FA-C68A3AD8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D64-05DE-41D9-A4AB-5FD6A0F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CD4-EC67-489F-97F4-5D61EE3CA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only one way to evaluate the success of companies like Nike,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 focuses on the ability of a business to pay or otherwise satisfy the returns expected by its stock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days’ sales in inventory is calculated by multiplying average inventory by the average daily cost of goods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ice-earnings ratio is an indicator of a firm’s future earnings prosp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centage analysis of increases and decreases in related items in comparative financial statements is ca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iz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838224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ncy analysis focuses on the ability of a busines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regular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e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or satisfy its current and noncurrent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orking capital of a business is define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148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current assets over current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current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total li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ess of total assets over stockholders’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considered a component of profitability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net sales t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receivabl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turnover is computed by which of the following formu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multipli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ales divid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divided by total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 divided by averag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a company’s ability to collect its accounts receivable, a business would use 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at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 turnov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capital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 measure of the profitability of a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ings per share on commo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apital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net sales t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re accounting tools to help perform financ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rporations are required to issue to their stockholders and intereste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nalysi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ne of the following is not a tool in financial statement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variou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accepted accounting principles (GAAP) require which of the following to be reported on the income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648320" y="1981080"/>
          <a:ext cx="43434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3434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arned on commo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fixed assets to long-term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ings per share (E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61596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rative cash and accounts receivable balances for a company are provided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426708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0% decrease; Accounts Receivable, 7.5%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0% increase; Accounts Receivable, 7.5% de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5% decrease; Accounts Receivable, 7.0%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, 25% increase; Accounts Receivable, 7.0% de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1"/>
          <p:cNvSpPr/>
          <p:nvPr/>
        </p:nvSpPr>
        <p:spPr>
          <a:xfrm>
            <a:off x="457200" y="1650960"/>
            <a:ext cx="830592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457200" y="2031840"/>
            <a:ext cx="830592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2,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ne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4,4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457200" y="291780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information, what is the percentage of increase or decrease that would be shown in a balance sheet with horizontal ana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44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4114800" cy="42973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0% decrease; Accounts Receivable, 7.5%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0% increase; Accounts Receivable, 7.5%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5% decrease; Accounts Receivable, 7.0%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h, 25% increase; Accounts Receivable, 7.0% 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914400"/>
            <a:ext cx="8305920" cy="10638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 information for Lee Corporation is provid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52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5"/>
          <p:cNvSpPr/>
          <p:nvPr/>
        </p:nvSpPr>
        <p:spPr>
          <a:xfrm>
            <a:off x="457200" y="2214720"/>
            <a:ext cx="8305920" cy="581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457200" y="271764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 3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57200" y="4149720"/>
            <a:ext cx="8305920" cy="1800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vertical analysis of the income statement for Lee Corporatio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oss prof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2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762120"/>
            <a:ext cx="8305920" cy="9421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tems are reported on a company’s balance she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426708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2.0; Quick ratio,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2.0; Quick ratio, 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1.5; Quick ratio,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ratio, 1.5; Quick ratio, 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71" name="Rectangle 18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9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1"/>
          <p:cNvSpPr/>
          <p:nvPr/>
        </p:nvSpPr>
        <p:spPr>
          <a:xfrm>
            <a:off x="457200" y="1727280"/>
            <a:ext cx="8305920" cy="1618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$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invest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ne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2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457200" y="3495600"/>
            <a:ext cx="8305920" cy="4597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(a) the current ratio and (b) the quick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80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3530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2.0; Quick ratio,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2.0; Quick ratio,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1.5; Quick ratio,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atio, 1.5; Quick ratio,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57200" y="1011240"/>
            <a:ext cx="8305920" cy="5763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 report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88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5"/>
          <p:cNvSpPr/>
          <p:nvPr/>
        </p:nvSpPr>
        <p:spPr>
          <a:xfrm>
            <a:off x="457200" y="171144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ales                                       $9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ccounts receivable (n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57200" y="315900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counts receivable turn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.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days’ sales in receiv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3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e management of Nike, Inc. use financial analysis to evaluate performance and develop strategies for the compan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TPChart"/>
          <p:cNvGraphicFramePr/>
          <p:nvPr/>
        </p:nvGraphicFramePr>
        <p:xfrm>
          <a:off x="5143680" y="2362320"/>
          <a:ext cx="393984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362320"/>
                    <a:ext cx="39398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9"/>
          <p:cNvSpPr/>
          <p:nvPr/>
        </p:nvSpPr>
        <p:spPr>
          <a:xfrm>
            <a:off x="457200" y="720720"/>
            <a:ext cx="8305920" cy="3632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any reports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7200" y="102564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ales                                       $9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r" pos="492120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ccounts receivable (ne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57200" y="163512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36560"/>
                <a:tab algn="r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s receivable turn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days’ sales in receiv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3 d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200" name="Rectangle 13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5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14800" cy="1524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the stock price for Nike, Inc. easily explained with financial analysis of the company financi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perform financial analysis for a company only if you are deciding to invest in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age analysis of the relationship of each component in a financial statement to a total within the statement is called vertical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of a business to meet its financial obligations (debts) is called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 assets are cash and all other fixed ass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ability analysis focuses on the relationship between operating results and the resources available to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0:26:10Z</dcterms:created>
  <dc:creator> </dc:creator>
  <dc:description/>
  <dc:language>en-US</dc:language>
  <cp:lastModifiedBy>Leslie</cp:lastModifiedBy>
  <dcterms:modified xsi:type="dcterms:W3CDTF">2008-12-30T03:25:26Z</dcterms:modified>
  <cp:revision>35</cp:revision>
  <dc:subject/>
  <dc:title>In looking for the success of Williams-Sonoma, Inc., should you just look at the net income on the income statement?</dc:title>
</cp:coreProperties>
</file>